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701E93-1F7F-4582-B1E8-D94B3F0975E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217C53-2992-4D05-A8E3-F85767C42D1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5366DF-165C-4C00-B955-7D3F3BF0C2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724330-9273-4EFF-BEEC-F7BBFE42CA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0CB89A-2E23-4DF2-BB2C-876BECAA1CC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5707B8-F997-4B91-A9B8-1569668F2FD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305B9C-A175-4580-AB13-251EF5DCBD8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96319F-C74B-4098-981C-BEE1CF1A385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83E5FB-85DE-486B-A4C0-A8D7815A3A5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AE3DE9-3956-480E-AB45-EB55A69D542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388-FE50-40BA-9B3A-56014C0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16C-7781-46E2-909B-AD4550D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1C6-5E32-42B6-9698-C36E8C37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F4-3BB3-4060-8B1B-16CCAB3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6EC-8C55-4B74-A741-EC4104DF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39EF-E1C6-4276-BE89-F962465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9CC6-0240-458E-94BF-AB13802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BF3E-4844-4737-8324-C8570D56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D56-9ED6-4A81-A7BF-537E4AD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6D6-7B28-4797-89BB-AECD4E7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A947-AADF-4EC8-B421-56B8C28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9E9-C625-4999-A6A2-AE88F1F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544F-7CCE-460F-8D99-19814CC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9D9-B1DD-43A3-9311-E25446C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FD9-3236-4C0B-A9F9-E94BEA7E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2360-EE3D-4D65-A4C7-8B5A1336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00B0-7FAD-420F-A79A-0584FA8D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5F8-4B64-4932-B675-020A0D3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3BB-92E9-48DA-AA1B-8CB7B8E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367-9319-4BC1-8D35-872FF2BD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574-C669-4875-9E5F-8B2A8B8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F7B-3F99-41CC-9EC5-1AE2A79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9B7-56F3-497C-B70E-E5EAFD7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6BC-34C2-4690-BF79-CEC50AF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C59-D7F3-403B-ADAA-289BEAD53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E26-526D-4A0C-A4BE-A7B9CB1F2A1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1, 20.2 and 20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s: 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Immagine 1" descr="aa.tiff"/>
          <p:cNvPicPr/>
          <p:nvPr/>
        </p:nvPicPr>
        <p:blipFill>
          <a:blip r:embed="rId1"/>
          <a:srcRect l="0" t="14410" r="6943" b="2573"/>
          <a:stretch/>
        </p:blipFill>
        <p:spPr>
          <a:xfrm>
            <a:off x="2052720" y="2708280"/>
            <a:ext cx="7075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the Graph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wTie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-entries in adj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? How much to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parallelize the proc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ge sel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file has been parsed or 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fter 20 mil pages, we have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ver 200 milli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Overall we have about 20Gb of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  compress URLs in main memory, or use dis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Mercator,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so, two-level indexing with Front-coding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Link Extracto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Downloaders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 of lif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108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109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11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113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116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ks are given to Central coordinator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?bottleneck?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500880" y="155736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  <a:ea typeface="MS PGothic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servers mapped to unit circ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MS PGothic"/>
              </a:rPr>
              <a:t>What if a download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MS PGothic"/>
              </a:rPr>
              <a:t>What if a new download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"/>
          <p:cNvGrpSpPr/>
          <p:nvPr/>
        </p:nvGrpSpPr>
        <p:grpSpPr>
          <a:xfrm>
            <a:off x="4143240" y="3857760"/>
            <a:ext cx="4954320" cy="2285640"/>
            <a:chOff x="4143240" y="3857760"/>
            <a:chExt cx="4954320" cy="2285640"/>
          </a:xfrm>
        </p:grpSpPr>
        <p:sp>
          <p:nvSpPr>
            <p:cNvPr id="128" name="Text Box 8"/>
            <p:cNvSpPr/>
            <p:nvPr/>
          </p:nvSpPr>
          <p:spPr>
            <a:xfrm>
              <a:off x="4582080" y="3875040"/>
              <a:ext cx="412776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ne old to the new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143240" y="3857760"/>
              <a:ext cx="4954320" cy="2285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31T15:22:48Z</dcterms:modified>
  <cp:revision>1187</cp:revision>
  <dc:subject/>
  <dc:title>Web Algorithmics</dc:title>
</cp:coreProperties>
</file>